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4AA-A24C-4300-9535-F7023DFA3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F1D-0102-4E57-9AA2-D43F1C60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DDA-6EE2-4819-A577-9322B2DF8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871F-FD2A-4126-925D-B77AECEA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90A-EB1A-4CA3-AC5C-B9000012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63D-D490-4DCC-A667-00BE1628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411-92BF-4D84-A192-CDDA4323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102-D59B-4F3C-B518-9D63EE1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026-3D3E-449D-B37B-0E6474A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DB2-1094-4585-B6D8-F53B46C7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E06-937C-48E4-8E0D-87A52D29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5FB-85AB-4B8D-BADB-3956B4E5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FCB1-343B-4A0C-A2F2-6AD469F43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546" t="0" r="0" b="0"/>
          <a:stretch/>
        </p:blipFill>
        <p:spPr>
          <a:xfrm>
            <a:off x="533520" y="533520"/>
            <a:ext cx="582768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363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791" t="0" r="0" b="0"/>
          <a:stretch/>
        </p:blipFill>
        <p:spPr>
          <a:xfrm>
            <a:off x="61920" y="0"/>
            <a:ext cx="679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4863" t="0" r="0" b="0"/>
          <a:stretch/>
        </p:blipFill>
        <p:spPr>
          <a:xfrm>
            <a:off x="42840" y="0"/>
            <a:ext cx="67327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5848" t="0" r="0" b="862"/>
          <a:stretch/>
        </p:blipFill>
        <p:spPr>
          <a:xfrm>
            <a:off x="115920" y="0"/>
            <a:ext cx="63961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5139" t="0" r="0" b="862"/>
          <a:stretch/>
        </p:blipFill>
        <p:spPr>
          <a:xfrm>
            <a:off x="228600" y="0"/>
            <a:ext cx="6504120" cy="87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5739" t="3394" r="0" b="1616"/>
          <a:stretch/>
        </p:blipFill>
        <p:spPr>
          <a:xfrm>
            <a:off x="0" y="380880"/>
            <a:ext cx="6648480" cy="853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8458" t="73277" r="-12297" b="2842"/>
          <a:stretch/>
        </p:blipFill>
        <p:spPr>
          <a:xfrm>
            <a:off x="228600" y="6896160"/>
            <a:ext cx="656604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05:37:02Z</dcterms:created>
  <dc:creator>Biswanath Nandi</dc:creator>
  <dc:description/>
  <dc:language>en-US</dc:language>
  <cp:lastModifiedBy>Biswanath Nandi</cp:lastModifiedBy>
  <dcterms:modified xsi:type="dcterms:W3CDTF">2001-04-06T05:57:42Z</dcterms:modified>
  <cp:revision>3</cp:revision>
  <dc:subject/>
  <dc:title>PowerPoint Presentation</dc:title>
</cp:coreProperties>
</file>